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ED1-F500-4FBC-8B54-7628F318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5E9-6B8B-4228-9C1B-89543B77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034-5C58-4F9F-8EB9-D109979C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98A-91A3-4AE5-A947-929402B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DA8-37E1-4FA8-AF50-20C965A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747-66E6-4FC8-9AB0-D32D1CC3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162-0FC8-4BA5-88AB-85040FD9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0B9-ABA1-49D9-9282-2519EEC9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CBE-2672-49DB-892D-A0C9187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22C-9079-4133-B60B-201FB8C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DB4-9F88-4BB8-A99A-029FB97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A3F-CD87-4A1F-8655-0AD73F26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F59-9294-4BDF-97A8-FBC6EA904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erpreting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0160" y="1905120"/>
            <a:ext cx="1288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0160" y="4038480"/>
            <a:ext cx="5662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72200" y="2529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4648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0:04:03Z</dcterms:modified>
  <cp:revision>46</cp:revision>
  <dc:subject/>
  <dc:title>PowerPoint Presentation</dc:title>
</cp:coreProperties>
</file>